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075B3-7AA8-4015-B19A-2AEC55F81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C0043-0C99-4039-8A02-064ED0D8A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66DFE-C396-46DC-AE17-84A0D895C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5B818-3B20-4559-8923-BAB744A3A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521EC-EBF2-43B8-B1C5-4A2112F58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D95A8-BEF8-45E7-8751-4C80A5A16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05A0A-D227-47D0-9077-A28FE1EE5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85E0B-05A1-484B-B55F-DAC49CC7E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DA9CB-BED3-4DF6-9B73-261C02FC4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45EFF-097E-476E-8E85-9DA8348F2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97227-2681-4F8B-8CA2-75DCC8438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41B61-3FFD-4F3B-ADBE-BE2DEBCF5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4CB0D-EF7F-4166-BD85-B8D4602A6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9CAC4-4381-430F-BC37-A55A39D54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D9972-E9AE-4296-8046-73262626E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CF0E2-4E35-4AB8-ADDE-58AD3F819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6025B-EA66-449F-AD46-A37E7F6E1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231F4-7CA6-4469-9A06-7F45E0794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65807-CE47-4B3A-AE4A-D2843DB2E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08DBA-AF5B-4393-A2DB-3E36844E7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000EE-0C7C-4542-88EE-B34C8098C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C13AF-027D-4F7A-8BF2-B10578602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6EE36-179F-41A2-BE01-7C001A10C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95C60-8036-43FE-B4BC-833DF739D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B165-64C2-4922-8B03-DF92D5B051B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0C81-EB38-450D-B8DB-37D1B2C68C0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is dokumenta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pateikimas teismu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ų įrodymų vertin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okumentas pagal Tarptautinių žodžių žodyn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aštiškas ko nors paliudijimas, pažymėjima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aterialus objektas (popierius, piešinys, nuotrauka, kino juosta</a:t>
            </a:r>
            <a:r>
              <a:rPr b="0" lang="en-US" sz="2400" spc="-1" strike="noStrike">
                <a:solidFill>
                  <a:srgbClr val="003366"/>
                </a:solidFill>
                <a:latin typeface="Arial"/>
              </a:rPr>
              <a:t>)</a:t>
            </a:r>
            <a:r>
              <a:rPr b="0" lang="lt-LT" sz="2400" spc="-1" strike="noStrike">
                <a:solidFill>
                  <a:srgbClr val="003366"/>
                </a:solidFill>
                <a:latin typeface="Arial"/>
              </a:rPr>
              <a:t>, kuriame užfiksuotos kokios nors žin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tsižvelgiant į dokumento kaip įrodymo (aplinkybių paliudijimo; turinio, o ne formos) reikšmę procese, aišku, kad pati sąvoka nieko daugiau ir nereikalauja (tik raštu paliudyti), todėl tinkamesnė pirmoji žodyno nurodyta reikšmė</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UNCITRAL</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Generalinis sekretoriu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kslas, dėl kurio nustatomas reikalavimas, kad informacija būtų dokumente ar kitokiame rašte, turėtų būti patenkinamas kompiuterinių įrašu</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6 straipsnis nustato, kad rašytiniu turi būti pripažįstamas duomenų pranešimas, kai jame esanti informacija yra prieinama taip, kad ja būtų galima vėliau pasirem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CPK</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ivilinio proceso kodekso 198 straipsni</a:t>
            </a:r>
            <a:r>
              <a:rPr b="0" lang="en-US" sz="2800" spc="-1" strike="noStrike">
                <a:solidFill>
                  <a:srgbClr val="003366"/>
                </a:solidFill>
                <a:latin typeface="Arial"/>
              </a:rPr>
              <a:t>o</a:t>
            </a:r>
            <a:r>
              <a:rPr b="0" lang="lt-LT" sz="2800" spc="-1" strike="noStrike">
                <a:solidFill>
                  <a:srgbClr val="003366"/>
                </a:solidFill>
                <a:latin typeface="Arial"/>
              </a:rPr>
              <a:t> 2 dalis nustato, kad dokumento rašytinei formai prilyginami dalyvaujančių byloje asmenų pasirašyti dokumentai, įstatymų ir kitų teisės aktų nustatyta tvarka perduoti telekomunikacijų galiniais įrenginia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erdavimas telekomunikacijų galiniais įrenginiais v. duomenų pranešimo samprata</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kurta, išsiusta, gauta, išsaugota informacij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Originalas - UNCITRAL</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8 straipsnis nurodo, kad originalu pripažįstamas duomenų pranešimas, kai yra patikimas informacijos vientisumo (nepakeičiamumo) užtikrinimas nuo momento, kai jis pirmą kartą sukurtas galutine forma kaip duomenų pranešimas arba kitkas, ir kad būtų įmanoma pademonstruoti jame esančią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teikimas teismui</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tiesioginis pateik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iūlytina patvirtinti laikmeną</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teikimas popierine form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as byloje dalyvaujanči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ėra pagrindo teigti, kad būtinai pasirašytas elektroniniu parašu – pakanka ir papras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LR įstatymai</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mas įvertina byloje esančius įrodymus pagal vidinį savo įsitikinimą, pagrįstą visapusišku ir objektyviu  aplinkybių, kurios buvo įrodinėjamos proceso metu, išnagrinėjimu, vadovaudamasis įstatymais</a:t>
            </a: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alių taisyklių nė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a pasitelkti ekspert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UNCITRAL</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s komercijos pavyzdinio įstatymo 9 straipsnio 2 dalyje pateikti informacijos, esančios elektroninėje formoje, kaip įrodinėjimo priemonės, vertinimo kriterijai:</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o, kuriuo duomenų pranešimas buvo sukurtas, saugotas, persiųstas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nformacijos integralumo (vientisumo, nepakeičiamumo) išlaikymo būdo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as, kuriuo nurodomas duomenų pranešimo kūrėj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et kuris kitas tinkamas faktoriu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lamanauskas</cp:lastModifiedBy>
  <dcterms:modified xsi:type="dcterms:W3CDTF">2004-10-25T07:08:55Z</dcterms:modified>
  <cp:revision>29</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8449184</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